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52906"/>
        <c:axId val="96387816"/>
      </c:barChart>
      <c:catAx>
        <c:axId val="17652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7816"/>
        <c:crosses val="autoZero"/>
        <c:auto val="1"/>
        <c:lblAlgn val="ctr"/>
        <c:lblOffset val="100"/>
        <c:noMultiLvlLbl val="0"/>
      </c:catAx>
      <c:valAx>
        <c:axId val="96387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52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32C-71BA-4889-8CC9-9924FA4D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613-4B4C-4E13-92FB-55C27DF1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CE6-52A5-4781-AB56-C0F36146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4D2-DFF1-4D39-AA5F-582FFB2A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47D-6FA1-4EEE-AD2E-538D3DFD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71A-0C99-4FE6-9009-15233A1B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461-00C3-4FB9-A9CB-D071C492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0D8-4853-43DB-91FD-8D78E0F3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2D5-1B75-477E-85FA-91FA68CE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E29-6144-4A92-B76A-DA7A5710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52F-D1B8-4EDE-940D-69E255DE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A84-9B22-440D-BB85-C264EAE9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14687-CF44-458F-B26D-A137CC9DC8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