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94232"/>
        <c:axId val="98031370"/>
      </c:barChart>
      <c:catAx>
        <c:axId val="89194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1370"/>
        <c:crosses val="autoZero"/>
        <c:auto val="1"/>
        <c:lblAlgn val="ctr"/>
        <c:lblOffset val="100"/>
        <c:noMultiLvlLbl val="0"/>
      </c:catAx>
      <c:valAx>
        <c:axId val="98031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4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92E-A077-4DBE-AA30-A95DE4CB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E21-7A8D-460A-899F-CFFDE532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0D2-5811-411D-B1E8-228A95F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34A-0E23-4703-961F-7AFE9947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D5A-F12E-4841-AC0F-7CB2921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A0A-F703-44F4-BF94-9A14D5B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D15-B961-4566-8A41-342EDAA6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742-F6E6-4AC6-B8C7-532C183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536-3ABB-4C91-8A17-EBAC393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EFC-6BD4-4A36-B754-2C7EFEF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954-6C20-4D70-9F46-A7F8FBD7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72A-3A44-4F38-96B6-BFEF2F6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C047E-35A8-476D-B6A9-F7BA6175B7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